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66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774960" y="-360"/>
            <a:ext cx="28879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866880" y="740880"/>
            <a:ext cx="4930560" cy="369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78785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878785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888480" y="4687560"/>
            <a:ext cx="488484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-360" y="937224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774960" y="9372240"/>
            <a:ext cx="28879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35B6-74DB-4F16-831D-4CA226783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774960" y="9372600"/>
            <a:ext cx="28879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91678-02CA-4A74-A0D3-3685A5E88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853920" y="606600"/>
            <a:ext cx="4945320" cy="37083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836280" y="4468320"/>
            <a:ext cx="5405400" cy="493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ECD86-DD72-413E-9BA3-F23E5E0D87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33000" y="165240"/>
            <a:ext cx="8420040" cy="73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78785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047240"/>
            <a:ext cx="838692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3683880"/>
            <a:ext cx="838692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20E2F-04FB-4930-9D86-F7D0E69090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33000" y="165240"/>
            <a:ext cx="8420040" cy="73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78785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047240"/>
            <a:ext cx="409248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047240"/>
            <a:ext cx="409248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3683880"/>
            <a:ext cx="409248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683880"/>
            <a:ext cx="409248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E150A-9E60-44DF-AC9E-33A3300D4B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33000" y="165240"/>
            <a:ext cx="8420040" cy="73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78785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047240"/>
            <a:ext cx="270036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6240" y="1047240"/>
            <a:ext cx="270036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1960" y="1047240"/>
            <a:ext cx="270036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3683880"/>
            <a:ext cx="270036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6240" y="3683880"/>
            <a:ext cx="270036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1960" y="3683880"/>
            <a:ext cx="270036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D0614-F316-473F-9B12-43FD08E7FB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33000" y="165240"/>
            <a:ext cx="8420040" cy="73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78785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520" y="1047240"/>
            <a:ext cx="8386920" cy="50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33000" y="165240"/>
            <a:ext cx="8420040" cy="73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78785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047240"/>
            <a:ext cx="838692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33000" y="165240"/>
            <a:ext cx="8420040" cy="73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78785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1047240"/>
            <a:ext cx="409248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840" y="1047240"/>
            <a:ext cx="409248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33000" y="165240"/>
            <a:ext cx="8420040" cy="73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78785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33000" y="165240"/>
            <a:ext cx="842004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33000" y="165240"/>
            <a:ext cx="8420040" cy="73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78785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047240"/>
            <a:ext cx="409248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840" y="1047240"/>
            <a:ext cx="409248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520" y="3683880"/>
            <a:ext cx="409248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33000" y="165240"/>
            <a:ext cx="8420040" cy="73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7878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047240"/>
            <a:ext cx="8386920" cy="50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396BD-8D15-4978-9C30-E3B7F9FB7D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33000" y="165240"/>
            <a:ext cx="8420040" cy="73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78785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047240"/>
            <a:ext cx="409248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840" y="1047240"/>
            <a:ext cx="409248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7840" y="3683880"/>
            <a:ext cx="409248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33000" y="165240"/>
            <a:ext cx="8420040" cy="73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7878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047240"/>
            <a:ext cx="409248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7840" y="1047240"/>
            <a:ext cx="409248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520" y="3683880"/>
            <a:ext cx="838692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33000" y="165240"/>
            <a:ext cx="8420040" cy="73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78785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047240"/>
            <a:ext cx="838692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520" y="3683880"/>
            <a:ext cx="838692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33000" y="165240"/>
            <a:ext cx="8420040" cy="73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78785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1047240"/>
            <a:ext cx="409248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7840" y="1047240"/>
            <a:ext cx="409248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683880"/>
            <a:ext cx="409248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7840" y="3683880"/>
            <a:ext cx="409248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33000" y="165240"/>
            <a:ext cx="8420040" cy="73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78785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520" y="1047240"/>
            <a:ext cx="270036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16240" y="1047240"/>
            <a:ext cx="270036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51960" y="1047240"/>
            <a:ext cx="270036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520" y="3683880"/>
            <a:ext cx="270036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16240" y="3683880"/>
            <a:ext cx="270036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51960" y="3683880"/>
            <a:ext cx="270036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33000" y="165240"/>
            <a:ext cx="8420040" cy="73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7878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047240"/>
            <a:ext cx="838692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BE56F-1FE9-46C9-B14A-1887E9320E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33000" y="165240"/>
            <a:ext cx="8420040" cy="73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78785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047240"/>
            <a:ext cx="409248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047240"/>
            <a:ext cx="409248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D0571-23FA-4213-B828-2570F47117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33000" y="165240"/>
            <a:ext cx="8420040" cy="73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787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E5581-0227-4A36-AC3E-A4D221E5EB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33000" y="165240"/>
            <a:ext cx="842004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E5ECF-4A80-43B1-95DE-9B5273573E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33000" y="165240"/>
            <a:ext cx="8420040" cy="73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78785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047240"/>
            <a:ext cx="409248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047240"/>
            <a:ext cx="409248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3683880"/>
            <a:ext cx="409248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A9B0F-62BD-4B41-B919-AF6473DCD2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33000" y="165240"/>
            <a:ext cx="8420040" cy="73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78785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047240"/>
            <a:ext cx="409248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047240"/>
            <a:ext cx="409248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683880"/>
            <a:ext cx="409248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52658-3FA8-4D3E-89A2-9C2F58E528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33000" y="165240"/>
            <a:ext cx="8420040" cy="73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78785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047240"/>
            <a:ext cx="409248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047240"/>
            <a:ext cx="409248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3683880"/>
            <a:ext cx="838692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A734A-CC98-42CA-B1FD-938E0C2989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2" descr="arc-1"/>
          <p:cNvPicPr/>
          <p:nvPr/>
        </p:nvPicPr>
        <p:blipFill>
          <a:blip r:embed="rId2"/>
          <a:srcRect l="0" t="0" r="0" b="25774"/>
          <a:stretch/>
        </p:blipFill>
        <p:spPr>
          <a:xfrm>
            <a:off x="6819840" y="0"/>
            <a:ext cx="2324160" cy="6172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1047240"/>
            <a:ext cx="838692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spcBef>
                <a:spcPts val="601"/>
              </a:spcBef>
              <a:buClr>
                <a:srgbClr val="d10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79360">
              <a:spcBef>
                <a:spcPts val="601"/>
              </a:spcBef>
              <a:buClr>
                <a:srgbClr val="d10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7760" indent="-177480">
              <a:spcBef>
                <a:spcPts val="601"/>
              </a:spcBef>
              <a:buClr>
                <a:srgbClr val="d10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34960" indent="-291960">
              <a:spcBef>
                <a:spcPts val="601"/>
              </a:spcBef>
              <a:buClr>
                <a:srgbClr val="d10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78040" indent="-177840">
              <a:spcBef>
                <a:spcPts val="601"/>
              </a:spcBef>
              <a:buClr>
                <a:srgbClr val="d10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778040" indent="-177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778040" indent="-177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228240" y="6397560"/>
            <a:ext cx="18176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78785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0BB01-27FC-4DB8-8DBD-B42C54A2E263}" type="slidenum">
              <a:rPr b="0" lang="en-US" sz="1200" spc="-1" strike="noStrike">
                <a:solidFill>
                  <a:srgbClr val="878785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333000" y="165240"/>
            <a:ext cx="8420040" cy="73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78785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878785"/>
              </a:solidFill>
              <a:latin typeface="Arial"/>
            </a:endParaRPr>
          </a:p>
        </p:txBody>
      </p:sp>
      <p:sp>
        <p:nvSpPr>
          <p:cNvPr id="4" name="Line 26"/>
          <p:cNvSpPr/>
          <p:nvPr/>
        </p:nvSpPr>
        <p:spPr>
          <a:xfrm>
            <a:off x="457200" y="901800"/>
            <a:ext cx="8686800" cy="0"/>
          </a:xfrm>
          <a:prstGeom prst="line">
            <a:avLst/>
          </a:prstGeom>
          <a:ln w="19080">
            <a:solidFill>
              <a:srgbClr val="8787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8" descr="FlintPigments cmyk (1)"/>
          <p:cNvPicPr/>
          <p:nvPr/>
        </p:nvPicPr>
        <p:blipFill>
          <a:blip r:embed="rId3"/>
          <a:stretch/>
        </p:blipFill>
        <p:spPr>
          <a:xfrm>
            <a:off x="6781680" y="6197760"/>
            <a:ext cx="2027520" cy="52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2" descr="arc-1"/>
          <p:cNvPicPr/>
          <p:nvPr/>
        </p:nvPicPr>
        <p:blipFill>
          <a:blip r:embed="rId2"/>
          <a:srcRect l="0" t="0" r="0" b="43188"/>
          <a:stretch/>
        </p:blipFill>
        <p:spPr>
          <a:xfrm>
            <a:off x="6842160" y="0"/>
            <a:ext cx="2324160" cy="4724280"/>
          </a:xfrm>
          <a:prstGeom prst="rect">
            <a:avLst/>
          </a:prstGeom>
          <a:ln w="0">
            <a:noFill/>
          </a:ln>
        </p:spPr>
      </p:pic>
      <p:sp>
        <p:nvSpPr>
          <p:cNvPr id="43" name="Line 46"/>
          <p:cNvSpPr/>
          <p:nvPr/>
        </p:nvSpPr>
        <p:spPr>
          <a:xfrm>
            <a:off x="0" y="4699080"/>
            <a:ext cx="9144000" cy="0"/>
          </a:xfrm>
          <a:prstGeom prst="line">
            <a:avLst/>
          </a:prstGeom>
          <a:ln w="44280">
            <a:solidFill>
              <a:srgbClr val="8787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7" descr="FlintPigments cmyk (1)"/>
          <p:cNvPicPr/>
          <p:nvPr/>
        </p:nvPicPr>
        <p:blipFill>
          <a:blip r:embed="rId3"/>
          <a:stretch/>
        </p:blipFill>
        <p:spPr>
          <a:xfrm>
            <a:off x="3568680" y="4924440"/>
            <a:ext cx="5330880" cy="13953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380520" y="1047240"/>
            <a:ext cx="838692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spcBef>
                <a:spcPts val="601"/>
              </a:spcBef>
              <a:buClr>
                <a:srgbClr val="d10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79360">
              <a:spcBef>
                <a:spcPts val="601"/>
              </a:spcBef>
              <a:buClr>
                <a:srgbClr val="d10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7760" indent="-177480">
              <a:spcBef>
                <a:spcPts val="601"/>
              </a:spcBef>
              <a:buClr>
                <a:srgbClr val="d10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34960" indent="-291960">
              <a:spcBef>
                <a:spcPts val="601"/>
              </a:spcBef>
              <a:buClr>
                <a:srgbClr val="d10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78040" indent="-177840">
              <a:spcBef>
                <a:spcPts val="601"/>
              </a:spcBef>
              <a:buClr>
                <a:srgbClr val="d10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778040" indent="-177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778040" indent="-177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333000" y="165240"/>
            <a:ext cx="8420040" cy="73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78785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8787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"/>
          <p:cNvSpPr/>
          <p:nvPr/>
        </p:nvSpPr>
        <p:spPr>
          <a:xfrm>
            <a:off x="1295280" y="1009800"/>
            <a:ext cx="73915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d10900"/>
                </a:solidFill>
                <a:latin typeface="Arial"/>
              </a:rPr>
              <a:t>PRINTESTER Polyester Resins</a:t>
            </a:r>
            <a:br>
              <a:rPr sz="3400"/>
            </a:br>
            <a:br>
              <a:rPr sz="3400"/>
            </a:br>
            <a:r>
              <a:rPr b="1" lang="fr-FR" sz="3400" spc="-1" strike="noStrike">
                <a:solidFill>
                  <a:srgbClr val="d10900"/>
                </a:solidFill>
                <a:latin typeface="Arial"/>
              </a:rPr>
              <a:t>	</a:t>
            </a:r>
            <a:r>
              <a:rPr b="1" lang="fr-FR" sz="3400" spc="-1" strike="noStrike">
                <a:solidFill>
                  <a:srgbClr val="d10900"/>
                </a:solidFill>
                <a:latin typeface="Arial"/>
              </a:rPr>
              <a:t>for Liquid Packaging Ink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2895120" y="2990520"/>
            <a:ext cx="579132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ebruary 15th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egnaposto numero diapositiva 1"/>
          <p:cNvSpPr/>
          <p:nvPr/>
        </p:nvSpPr>
        <p:spPr>
          <a:xfrm>
            <a:off x="228600" y="6397560"/>
            <a:ext cx="18176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BFC6A-E583-4909-A855-08D49173239F}" type="slidenum">
              <a:rPr b="0" lang="en-US" sz="1200" spc="-1" strike="noStrike">
                <a:solidFill>
                  <a:srgbClr val="878785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3"/>
          <p:cNvSpPr/>
          <p:nvPr/>
        </p:nvSpPr>
        <p:spPr>
          <a:xfrm>
            <a:off x="2971800" y="380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87"/>
          <p:cNvSpPr/>
          <p:nvPr/>
        </p:nvSpPr>
        <p:spPr>
          <a:xfrm>
            <a:off x="333360" y="165240"/>
            <a:ext cx="84200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d10900"/>
                </a:solidFill>
                <a:latin typeface="Arial"/>
              </a:rPr>
              <a:t>Types of Polyesters avail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06"/>
          <p:cNvSpPr/>
          <p:nvPr/>
        </p:nvSpPr>
        <p:spPr>
          <a:xfrm>
            <a:off x="5442120" y="322740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lexible polymer to plasticize PVC, but also suitable for PVAc and N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07"/>
          <p:cNvSpPr/>
          <p:nvPr/>
        </p:nvSpPr>
        <p:spPr>
          <a:xfrm>
            <a:off x="898560" y="31510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lexible polymer used for the formulation of solvent based varnish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08"/>
          <p:cNvSpPr/>
          <p:nvPr/>
        </p:nvSpPr>
        <p:spPr>
          <a:xfrm>
            <a:off x="333360" y="1432080"/>
            <a:ext cx="4086360" cy="862560"/>
          </a:xfrm>
          <a:prstGeom prst="rect">
            <a:avLst/>
          </a:prstGeom>
          <a:solidFill>
            <a:srgbClr val="d10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olyesters for 2K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(PrintEster 101, PrintEster 401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09"/>
          <p:cNvSpPr/>
          <p:nvPr/>
        </p:nvSpPr>
        <p:spPr>
          <a:xfrm>
            <a:off x="5129280" y="1432080"/>
            <a:ext cx="3801960" cy="862560"/>
          </a:xfrm>
          <a:prstGeom prst="rect">
            <a:avLst/>
          </a:prstGeom>
          <a:solidFill>
            <a:srgbClr val="d10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lasticiz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(PrintEster 102 and 102 75A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10"/>
          <p:cNvSpPr/>
          <p:nvPr/>
        </p:nvSpPr>
        <p:spPr>
          <a:xfrm>
            <a:off x="538200" y="5203800"/>
            <a:ext cx="370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igh solid content, from 70 to 8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11"/>
          <p:cNvSpPr/>
          <p:nvPr/>
        </p:nvSpPr>
        <p:spPr>
          <a:xfrm>
            <a:off x="5072040" y="5203800"/>
            <a:ext cx="393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lventless, or 75% in Ethyl Ace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12"/>
          <p:cNvSpPr/>
          <p:nvPr/>
        </p:nvSpPr>
        <p:spPr>
          <a:xfrm rot="5400000">
            <a:off x="2027520" y="2586600"/>
            <a:ext cx="719280" cy="298440"/>
          </a:xfrm>
          <a:prstGeom prst="rightArrow">
            <a:avLst>
              <a:gd name="adj1" fmla="val 50000"/>
              <a:gd name="adj2" fmla="val 60253"/>
            </a:avLst>
          </a:prstGeom>
          <a:solidFill>
            <a:srgbClr val="d10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513"/>
          <p:cNvSpPr/>
          <p:nvPr/>
        </p:nvSpPr>
        <p:spPr>
          <a:xfrm rot="5400000">
            <a:off x="6674040" y="2586600"/>
            <a:ext cx="719280" cy="298440"/>
          </a:xfrm>
          <a:prstGeom prst="rightArrow">
            <a:avLst>
              <a:gd name="adj1" fmla="val 50000"/>
              <a:gd name="adj2" fmla="val 60253"/>
            </a:avLst>
          </a:prstGeom>
          <a:solidFill>
            <a:srgbClr val="d10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514"/>
          <p:cNvSpPr/>
          <p:nvPr/>
        </p:nvSpPr>
        <p:spPr>
          <a:xfrm rot="5400000">
            <a:off x="2031120" y="4494960"/>
            <a:ext cx="718920" cy="298440"/>
          </a:xfrm>
          <a:prstGeom prst="rightArrow">
            <a:avLst>
              <a:gd name="adj1" fmla="val 50000"/>
              <a:gd name="adj2" fmla="val 60223"/>
            </a:avLst>
          </a:prstGeom>
          <a:solidFill>
            <a:srgbClr val="d10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515"/>
          <p:cNvSpPr/>
          <p:nvPr/>
        </p:nvSpPr>
        <p:spPr>
          <a:xfrm rot="5400000">
            <a:off x="6677640" y="4494960"/>
            <a:ext cx="718920" cy="298440"/>
          </a:xfrm>
          <a:prstGeom prst="rightArrow">
            <a:avLst>
              <a:gd name="adj1" fmla="val 50000"/>
              <a:gd name="adj2" fmla="val 60223"/>
            </a:avLst>
          </a:prstGeom>
          <a:solidFill>
            <a:srgbClr val="d10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egnaposto numero diapositiva 1"/>
          <p:cNvSpPr/>
          <p:nvPr/>
        </p:nvSpPr>
        <p:spPr>
          <a:xfrm>
            <a:off x="228600" y="6397560"/>
            <a:ext cx="18176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1DA87-A9CC-4E18-BB0B-E93D433D0772}" type="slidenum">
              <a:rPr b="0" lang="en-US" sz="1200" spc="-1" strike="noStrike">
                <a:solidFill>
                  <a:srgbClr val="878785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333360" y="165240"/>
            <a:ext cx="84200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d10900"/>
                </a:solidFill>
                <a:latin typeface="Arial"/>
              </a:rPr>
              <a:t>PRINTESTER Polymers</a:t>
            </a:r>
            <a:r>
              <a:rPr b="1" lang="fr-FR" sz="3000" spc="-1" strike="noStrike">
                <a:solidFill>
                  <a:srgbClr val="d10900"/>
                </a:solidFill>
                <a:latin typeface="Arial"/>
              </a:rPr>
              <a:t>	</a:t>
            </a:r>
            <a:r>
              <a:rPr b="1" lang="fr-FR" sz="3000" spc="-1" strike="noStrike">
                <a:solidFill>
                  <a:srgbClr val="d10900"/>
                </a:solidFill>
                <a:latin typeface="Arial"/>
              </a:rPr>
              <a:t>	</a:t>
            </a:r>
            <a:r>
              <a:rPr b="1" lang="fr-FR" sz="3000" spc="-1" strike="noStrike">
                <a:solidFill>
                  <a:srgbClr val="d10900"/>
                </a:solidFill>
                <a:latin typeface="Arial"/>
              </a:rPr>
              <a:t>	</a:t>
            </a:r>
            <a:r>
              <a:rPr b="1" lang="fr-FR" sz="3000" spc="-1" strike="noStrike">
                <a:solidFill>
                  <a:srgbClr val="d10900"/>
                </a:solidFill>
                <a:latin typeface="Arial"/>
              </a:rPr>
              <a:t>	</a:t>
            </a:r>
            <a:r>
              <a:rPr b="1" lang="fr-FR" sz="3000" spc="-1" strike="noStrike">
                <a:solidFill>
                  <a:srgbClr val="d10900"/>
                </a:solidFill>
                <a:latin typeface="Arial"/>
              </a:rPr>
              <a:t>(1/2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87480" y="971640"/>
          <a:ext cx="8824680" cy="3938400"/>
        </p:xfrm>
        <a:graphic>
          <a:graphicData uri="http://schemas.openxmlformats.org/drawingml/2006/table">
            <a:tbl>
              <a:tblPr/>
              <a:tblGrid>
                <a:gridCol w="874440"/>
                <a:gridCol w="960480"/>
                <a:gridCol w="882720"/>
                <a:gridCol w="768240"/>
                <a:gridCol w="960480"/>
                <a:gridCol w="1074960"/>
                <a:gridCol w="998280"/>
                <a:gridCol w="2305080"/>
              </a:tblGrid>
              <a:tr h="77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te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e52d3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e52d3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d10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ype / Solv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e52d3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d10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id Cont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e52d3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d10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W </a:t>
                      </a: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g.mol</a:t>
                      </a:r>
                      <a:r>
                        <a:rPr b="0" lang="it-IT" sz="12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1</a:t>
                      </a: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e52d3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d10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sco.</a:t>
                      </a: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Brookfiel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Pa.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e52d3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d10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id Valu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g KOH/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e52d3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d10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ydroxy Numb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g KOH/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e52d3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d10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li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e52d30"/>
                      </a:solidFill>
                    </a:lnR>
                    <a:lnT w="18720">
                      <a:solidFill>
                        <a:srgbClr val="e52d3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d10900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1" lang="it-IT" sz="1500" spc="-1" strike="noStrike">
                          <a:solidFill>
                            <a:srgbClr val="d10900"/>
                          </a:solidFill>
                          <a:latin typeface="Arial"/>
                        </a:rPr>
                        <a:t>40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e52d3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omat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yl Ace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i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i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5 </a:t>
                      </a:r>
                      <a:r>
                        <a:rPr b="0" i="1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i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i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4 – 2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used in general 2K  OPV and Inks in combination with Isocyanates. Provides excellent gloss, high chemical resistance and fast-tack-fre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18720">
                      <a:solidFill>
                        <a:srgbClr val="e52d3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1" lang="it-IT" sz="1500" spc="-1" strike="noStrike">
                          <a:solidFill>
                            <a:srgbClr val="d10900"/>
                          </a:solidFill>
                          <a:latin typeface="Arial"/>
                        </a:rPr>
                        <a:t>10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e52d3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18720">
                      <a:solidFill>
                        <a:srgbClr val="e52d30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iphat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yl Ace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18720">
                      <a:solidFill>
                        <a:srgbClr val="e52d3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18720">
                      <a:solidFill>
                        <a:srgbClr val="e52d3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i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18720">
                      <a:solidFill>
                        <a:srgbClr val="e52d3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i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0 </a:t>
                      </a:r>
                      <a:r>
                        <a:rPr b="0" i="1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18720">
                      <a:solidFill>
                        <a:srgbClr val="e52d3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i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18720">
                      <a:solidFill>
                        <a:srgbClr val="e52d3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i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- 2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18720">
                      <a:solidFill>
                        <a:srgbClr val="e52d3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yester to be used in general 2K OPV in combination with Isocyanates. Especially recommended for white varnishes due to its </a:t>
                      </a: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low-yellowing</a:t>
                      </a: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18720">
                      <a:solidFill>
                        <a:srgbClr val="e52d3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18720">
                      <a:solidFill>
                        <a:srgbClr val="e52d3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egnaposto numero diapositiva 3"/>
          <p:cNvSpPr/>
          <p:nvPr/>
        </p:nvSpPr>
        <p:spPr>
          <a:xfrm>
            <a:off x="228600" y="6397560"/>
            <a:ext cx="18176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46AD8-B532-4163-84EF-0E3A4257F591}" type="slidenum">
              <a:rPr b="0" lang="en-US" sz="1200" spc="-1" strike="noStrike">
                <a:solidFill>
                  <a:srgbClr val="878785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33000" y="165240"/>
            <a:ext cx="8420040" cy="73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d10900"/>
                </a:solidFill>
                <a:latin typeface="Arial"/>
              </a:rPr>
              <a:t>Additional information on Polyester for 2K</a:t>
            </a:r>
            <a:endParaRPr b="1" lang="en-US" sz="3000" spc="-1" strike="noStrike">
              <a:solidFill>
                <a:srgbClr val="878785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047240"/>
            <a:ext cx="8386920" cy="41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spcBef>
                <a:spcPts val="601"/>
              </a:spcBef>
              <a:buClr>
                <a:srgbClr val="d10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10900"/>
                </a:solidFill>
                <a:latin typeface="Arial"/>
              </a:rPr>
              <a:t>Reactivity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79360">
              <a:spcBef>
                <a:spcPts val="499"/>
              </a:spcBef>
              <a:buClr>
                <a:srgbClr val="d10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H number = 220mg KOH / 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d10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10900"/>
                </a:solidFill>
                <a:latin typeface="Arial"/>
              </a:rPr>
              <a:t>Solubility in Ethyl acetate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(due to its low M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d10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10900"/>
                </a:solidFill>
                <a:latin typeface="Arial"/>
              </a:rPr>
              <a:t>Good properties of the film after curing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79360">
              <a:spcBef>
                <a:spcPts val="499"/>
              </a:spcBef>
              <a:buClr>
                <a:srgbClr val="d10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igh g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79360">
              <a:spcBef>
                <a:spcPts val="499"/>
              </a:spcBef>
              <a:buClr>
                <a:srgbClr val="d10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igh resist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79360">
              <a:spcBef>
                <a:spcPts val="499"/>
              </a:spcBef>
              <a:buClr>
                <a:srgbClr val="d10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ast tack-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79360">
              <a:spcBef>
                <a:spcPts val="499"/>
              </a:spcBef>
              <a:buClr>
                <a:srgbClr val="d10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ood adhesion on plastics and metallic subst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egnaposto numero diapositiva 1"/>
          <p:cNvSpPr/>
          <p:nvPr/>
        </p:nvSpPr>
        <p:spPr>
          <a:xfrm>
            <a:off x="228600" y="6397560"/>
            <a:ext cx="18176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36238-4239-4ABF-854C-3AF6856DB248}" type="slidenum">
              <a:rPr b="0" lang="en-US" sz="1200" spc="-1" strike="noStrike">
                <a:solidFill>
                  <a:srgbClr val="878785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333360" y="165240"/>
            <a:ext cx="84200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d10900"/>
                </a:solidFill>
                <a:latin typeface="Arial"/>
              </a:rPr>
              <a:t>PRINTESTER POLYESTER Plasticizers</a:t>
            </a:r>
            <a:r>
              <a:rPr b="1" lang="fr-FR" sz="3000" spc="-1" strike="noStrike">
                <a:solidFill>
                  <a:srgbClr val="d10900"/>
                </a:solidFill>
                <a:latin typeface="Arial"/>
              </a:rPr>
              <a:t>	</a:t>
            </a:r>
            <a:r>
              <a:rPr b="1" lang="fr-FR" sz="3000" spc="-1" strike="noStrike">
                <a:solidFill>
                  <a:srgbClr val="d10900"/>
                </a:solidFill>
                <a:latin typeface="Arial"/>
              </a:rPr>
              <a:t>(2/2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87480" y="1909800"/>
          <a:ext cx="8786520" cy="2782800"/>
        </p:xfrm>
        <a:graphic>
          <a:graphicData uri="http://schemas.openxmlformats.org/drawingml/2006/table">
            <a:tbl>
              <a:tblPr/>
              <a:tblGrid>
                <a:gridCol w="874440"/>
                <a:gridCol w="960480"/>
                <a:gridCol w="882720"/>
                <a:gridCol w="768240"/>
                <a:gridCol w="960480"/>
                <a:gridCol w="1074960"/>
                <a:gridCol w="998280"/>
                <a:gridCol w="2266920"/>
              </a:tblGrid>
              <a:tr h="77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te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e52d3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e52d3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d10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ype / Solv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e52d3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d10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id Cont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e52d3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d10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W </a:t>
                      </a: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g.mol</a:t>
                      </a:r>
                      <a:r>
                        <a:rPr b="0" lang="it-IT" sz="12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1</a:t>
                      </a: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e52d3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d10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sco.</a:t>
                      </a: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Brookfiel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Pa.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e52d3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d10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id Valu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g KOH/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e52d3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d10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ydroxy Numb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g KOH/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e52d3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d10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li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e52d30"/>
                      </a:solidFill>
                    </a:lnR>
                    <a:lnT w="18720">
                      <a:solidFill>
                        <a:srgbClr val="e52d3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d10900"/>
                    </a:solidFill>
                  </a:tcPr>
                </a:tc>
              </a:tr>
              <a:tr h="102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1" lang="it-IT" sz="1500" spc="-1" strike="noStrike">
                          <a:solidFill>
                            <a:srgbClr val="d10900"/>
                          </a:solidFill>
                          <a:latin typeface="Arial"/>
                        </a:rPr>
                        <a:t>10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e52d3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iphat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i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i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5 </a:t>
                      </a:r>
                      <a:r>
                        <a:rPr b="0" i="1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i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=80°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i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i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sticizer for PVC systems. High performance and adhesion on PET and plastic substrat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18720">
                      <a:solidFill>
                        <a:srgbClr val="e52d3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18720">
                      <a:solidFill>
                        <a:srgbClr val="e52d3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9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1" lang="it-IT" sz="1500" spc="-1" strike="noStrike">
                          <a:solidFill>
                            <a:srgbClr val="d10900"/>
                          </a:solidFill>
                          <a:latin typeface="Arial"/>
                        </a:rPr>
                        <a:t>10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1" lang="it-IT" sz="1500" spc="-1" strike="noStrike">
                          <a:solidFill>
                            <a:srgbClr val="d10900"/>
                          </a:solidFill>
                          <a:latin typeface="Arial"/>
                        </a:rPr>
                        <a:t>75 A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e52d3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18720">
                      <a:solidFill>
                        <a:srgbClr val="e52d30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iphatic 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yl Ace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18720">
                      <a:solidFill>
                        <a:srgbClr val="e52d3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18720">
                      <a:solidFill>
                        <a:srgbClr val="e52d3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i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18720">
                      <a:solidFill>
                        <a:srgbClr val="e52d3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i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0 </a:t>
                      </a:r>
                      <a:r>
                        <a:rPr b="0" i="1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± 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18720">
                      <a:solidFill>
                        <a:srgbClr val="e52d3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i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1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18720">
                      <a:solidFill>
                        <a:srgbClr val="e52d3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i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18720">
                      <a:solidFill>
                        <a:srgbClr val="e52d3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3T13:02:59Z</dcterms:created>
  <dc:creator>Console Vincenzo</dc:creator>
  <dc:description/>
  <dc:language>en-US</dc:language>
  <cp:lastModifiedBy>m.carbone</cp:lastModifiedBy>
  <cp:lastPrinted>2005-12-19T20:05:43Z</cp:lastPrinted>
  <dcterms:modified xsi:type="dcterms:W3CDTF">2011-04-14T19:22:12Z</dcterms:modified>
  <cp:revision>112</cp:revision>
  <dc:subject/>
  <dc:title>Presentazione di PowerPoint</dc:title>
</cp:coreProperties>
</file>