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66880" y="740880"/>
            <a:ext cx="493056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78785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88480" y="4687560"/>
            <a:ext cx="48848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937224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774960" y="937224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5ABD-62F1-497B-B154-663C1456E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4960" y="9372600"/>
            <a:ext cx="2887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CEE2-38BA-4F54-8E08-6B7E71511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3920" y="60660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836280" y="4468320"/>
            <a:ext cx="5405400" cy="49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CADB-CB7A-4AA7-861F-B70EA8F16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68388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4FBB-D2FC-456B-809E-781116FB2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533C-E586-47FE-8BDE-5FF5372E7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96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96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91CB-AFEB-4CBC-AECF-461CDC308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33000" y="165240"/>
            <a:ext cx="842004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A7A4-A643-4648-B43A-E025E4CCA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68388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624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1960" y="104724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624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1960" y="3683880"/>
            <a:ext cx="270036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018C-6B33-410E-B889-1BA7382C6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CD46-A501-4B36-94B5-3EBB05031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C505-1834-4EAF-8B99-E17B5679E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3000" y="165240"/>
            <a:ext cx="842004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E41B-23E8-4870-810F-F2FA2270D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8F53-922C-4B47-BC1C-E6C642385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68388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B8BA-0F30-49A3-86AB-440E9C434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047240"/>
            <a:ext cx="409248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683880"/>
            <a:ext cx="838692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38FE-6FF7-49CB-A64F-E89A669A5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arc-1"/>
          <p:cNvPicPr/>
          <p:nvPr/>
        </p:nvPicPr>
        <p:blipFill>
          <a:blip r:embed="rId2"/>
          <a:srcRect l="0" t="0" r="0" b="25774"/>
          <a:stretch/>
        </p:blipFill>
        <p:spPr>
          <a:xfrm>
            <a:off x="6819840" y="0"/>
            <a:ext cx="2324160" cy="617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d10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79360">
              <a:spcBef>
                <a:spcPts val="601"/>
              </a:spcBef>
              <a:buClr>
                <a:srgbClr val="d10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177480">
              <a:spcBef>
                <a:spcPts val="601"/>
              </a:spcBef>
              <a:buClr>
                <a:srgbClr val="d10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4960" indent="-291960">
              <a:spcBef>
                <a:spcPts val="601"/>
              </a:spcBef>
              <a:buClr>
                <a:srgbClr val="d10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8040" indent="-177840">
              <a:spcBef>
                <a:spcPts val="601"/>
              </a:spcBef>
              <a:buClr>
                <a:srgbClr val="d10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80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80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228240" y="6397560"/>
            <a:ext cx="18176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5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1EEF-0507-4B9F-AFC5-169B7825005F}" type="slidenum">
              <a:rPr b="0" lang="en-US" sz="1200" spc="-1" strike="noStrike">
                <a:solidFill>
                  <a:srgbClr val="878785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78785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  <p:sp>
        <p:nvSpPr>
          <p:cNvPr id="4" name="Line 26"/>
          <p:cNvSpPr/>
          <p:nvPr/>
        </p:nvSpPr>
        <p:spPr>
          <a:xfrm>
            <a:off x="457200" y="901800"/>
            <a:ext cx="8686800" cy="0"/>
          </a:xfrm>
          <a:prstGeom prst="line">
            <a:avLst/>
          </a:prstGeom>
          <a:ln w="19080">
            <a:solidFill>
              <a:srgbClr val="8787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8" descr="FlintPigments cmyk (1)"/>
          <p:cNvPicPr/>
          <p:nvPr/>
        </p:nvPicPr>
        <p:blipFill>
          <a:blip r:embed="rId3"/>
          <a:stretch/>
        </p:blipFill>
        <p:spPr>
          <a:xfrm>
            <a:off x="6781680" y="6197760"/>
            <a:ext cx="2027520" cy="52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2" descr="arc-1"/>
          <p:cNvPicPr/>
          <p:nvPr/>
        </p:nvPicPr>
        <p:blipFill>
          <a:blip r:embed="rId2"/>
          <a:srcRect l="0" t="0" r="0" b="43188"/>
          <a:stretch/>
        </p:blipFill>
        <p:spPr>
          <a:xfrm>
            <a:off x="6842160" y="0"/>
            <a:ext cx="2324160" cy="4724280"/>
          </a:xfrm>
          <a:prstGeom prst="rect">
            <a:avLst/>
          </a:prstGeom>
          <a:ln w="0">
            <a:noFill/>
          </a:ln>
        </p:spPr>
      </p:pic>
      <p:sp>
        <p:nvSpPr>
          <p:cNvPr id="43" name="Line 46"/>
          <p:cNvSpPr/>
          <p:nvPr/>
        </p:nvSpPr>
        <p:spPr>
          <a:xfrm>
            <a:off x="0" y="4699080"/>
            <a:ext cx="9144000" cy="0"/>
          </a:xfrm>
          <a:prstGeom prst="line">
            <a:avLst/>
          </a:prstGeom>
          <a:ln w="44280">
            <a:solidFill>
              <a:srgbClr val="8787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7" descr="FlintPigments cmyk (1)"/>
          <p:cNvPicPr/>
          <p:nvPr/>
        </p:nvPicPr>
        <p:blipFill>
          <a:blip r:embed="rId3"/>
          <a:stretch/>
        </p:blipFill>
        <p:spPr>
          <a:xfrm>
            <a:off x="3568680" y="4924440"/>
            <a:ext cx="5330880" cy="1395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80520" y="1047240"/>
            <a:ext cx="83869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d10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79360">
              <a:spcBef>
                <a:spcPts val="601"/>
              </a:spcBef>
              <a:buClr>
                <a:srgbClr val="d10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7760" indent="-177480">
              <a:spcBef>
                <a:spcPts val="601"/>
              </a:spcBef>
              <a:buClr>
                <a:srgbClr val="d10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4960" indent="-291960">
              <a:spcBef>
                <a:spcPts val="601"/>
              </a:spcBef>
              <a:buClr>
                <a:srgbClr val="d10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8040" indent="-177840">
              <a:spcBef>
                <a:spcPts val="601"/>
              </a:spcBef>
              <a:buClr>
                <a:srgbClr val="d10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80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80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3300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78785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8787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1295280" y="1009800"/>
            <a:ext cx="7391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d10900"/>
                </a:solidFill>
                <a:latin typeface="Arial"/>
              </a:rPr>
              <a:t>PrintPur Polyurethane Resins</a:t>
            </a:r>
            <a:br>
              <a:rPr sz="3400"/>
            </a:br>
            <a:br>
              <a:rPr sz="3400"/>
            </a:br>
            <a:r>
              <a:rPr b="1" lang="fr-FR" sz="3400" spc="-1" strike="noStrike">
                <a:solidFill>
                  <a:srgbClr val="d10900"/>
                </a:solidFill>
                <a:latin typeface="Arial"/>
              </a:rPr>
              <a:t>	</a:t>
            </a:r>
            <a:r>
              <a:rPr b="1" lang="fr-FR" sz="3400" spc="-1" strike="noStrike">
                <a:solidFill>
                  <a:srgbClr val="d10900"/>
                </a:solidFill>
                <a:latin typeface="Arial"/>
              </a:rPr>
              <a:t>for Printing In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895120" y="2990520"/>
            <a:ext cx="579132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ril 11th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egnaposto numero diapositiva 1"/>
          <p:cNvSpPr/>
          <p:nvPr/>
        </p:nvSpPr>
        <p:spPr>
          <a:xfrm>
            <a:off x="228600" y="6397560"/>
            <a:ext cx="18176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51A2-4B1D-4A9F-A094-3B426D5B01F1}" type="slidenum">
              <a:rPr b="0" lang="en-US" sz="1200" spc="-1" strike="noStrike">
                <a:solidFill>
                  <a:srgbClr val="87878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3"/>
          <p:cNvSpPr/>
          <p:nvPr/>
        </p:nvSpPr>
        <p:spPr>
          <a:xfrm>
            <a:off x="29718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87"/>
          <p:cNvSpPr/>
          <p:nvPr/>
        </p:nvSpPr>
        <p:spPr>
          <a:xfrm>
            <a:off x="33336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Types of Polyurethan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06"/>
          <p:cNvSpPr/>
          <p:nvPr/>
        </p:nvSpPr>
        <p:spPr>
          <a:xfrm>
            <a:off x="5442120" y="331308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U in the ink has the role to make a polymeric film after the solvent evapor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07"/>
          <p:cNvSpPr/>
          <p:nvPr/>
        </p:nvSpPr>
        <p:spPr>
          <a:xfrm>
            <a:off x="898560" y="3236760"/>
            <a:ext cx="297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U in the ink acts mainly as plasticiser of the binder (NC, PVB, PVC, etc..) because it is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 able to form a non-tacky film by itsel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8"/>
          <p:cNvSpPr/>
          <p:nvPr/>
        </p:nvSpPr>
        <p:spPr>
          <a:xfrm>
            <a:off x="533520" y="1432080"/>
            <a:ext cx="3657600" cy="862560"/>
          </a:xfrm>
          <a:prstGeom prst="rect">
            <a:avLst/>
          </a:prstGeom>
          <a:solidFill>
            <a:srgbClr val="d10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W 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LECULAR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PRINTPUR 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M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09"/>
          <p:cNvSpPr/>
          <p:nvPr/>
        </p:nvSpPr>
        <p:spPr>
          <a:xfrm>
            <a:off x="4952880" y="1432080"/>
            <a:ext cx="3733920" cy="862560"/>
          </a:xfrm>
          <a:prstGeom prst="rect">
            <a:avLst/>
          </a:prstGeom>
          <a:solidFill>
            <a:srgbClr val="d10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GH 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LECULAR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PRINTPUR 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M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10"/>
          <p:cNvSpPr/>
          <p:nvPr/>
        </p:nvSpPr>
        <p:spPr>
          <a:xfrm>
            <a:off x="825480" y="5275440"/>
            <a:ext cx="3365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lecular weights &lt; 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igh solid content, from 70 to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11"/>
          <p:cNvSpPr/>
          <p:nvPr/>
        </p:nvSpPr>
        <p:spPr>
          <a:xfrm>
            <a:off x="5405400" y="5275440"/>
            <a:ext cx="327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lecular weights &gt; 2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ow solid content from 25 to 4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12"/>
          <p:cNvSpPr/>
          <p:nvPr/>
        </p:nvSpPr>
        <p:spPr>
          <a:xfrm rot="5400000">
            <a:off x="2027520" y="2586600"/>
            <a:ext cx="719280" cy="298440"/>
          </a:xfrm>
          <a:prstGeom prst="rightArrow">
            <a:avLst>
              <a:gd name="adj1" fmla="val 50000"/>
              <a:gd name="adj2" fmla="val 60253"/>
            </a:avLst>
          </a:prstGeom>
          <a:solidFill>
            <a:srgbClr val="d10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13"/>
          <p:cNvSpPr/>
          <p:nvPr/>
        </p:nvSpPr>
        <p:spPr>
          <a:xfrm rot="5400000">
            <a:off x="6674040" y="2586600"/>
            <a:ext cx="719280" cy="298440"/>
          </a:xfrm>
          <a:prstGeom prst="rightArrow">
            <a:avLst>
              <a:gd name="adj1" fmla="val 50000"/>
              <a:gd name="adj2" fmla="val 60253"/>
            </a:avLst>
          </a:prstGeom>
          <a:solidFill>
            <a:srgbClr val="d10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14"/>
          <p:cNvSpPr/>
          <p:nvPr/>
        </p:nvSpPr>
        <p:spPr>
          <a:xfrm rot="5400000">
            <a:off x="2031120" y="4494960"/>
            <a:ext cx="718920" cy="298440"/>
          </a:xfrm>
          <a:prstGeom prst="rightArrow">
            <a:avLst>
              <a:gd name="adj1" fmla="val 50000"/>
              <a:gd name="adj2" fmla="val 60223"/>
            </a:avLst>
          </a:prstGeom>
          <a:solidFill>
            <a:srgbClr val="d10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15"/>
          <p:cNvSpPr/>
          <p:nvPr/>
        </p:nvSpPr>
        <p:spPr>
          <a:xfrm rot="5400000">
            <a:off x="6677640" y="4494960"/>
            <a:ext cx="718920" cy="298440"/>
          </a:xfrm>
          <a:prstGeom prst="rightArrow">
            <a:avLst>
              <a:gd name="adj1" fmla="val 50000"/>
              <a:gd name="adj2" fmla="val 60223"/>
            </a:avLst>
          </a:prstGeom>
          <a:solidFill>
            <a:srgbClr val="d10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egnaposto numero diapositiva 1"/>
          <p:cNvSpPr/>
          <p:nvPr/>
        </p:nvSpPr>
        <p:spPr>
          <a:xfrm>
            <a:off x="228600" y="6397560"/>
            <a:ext cx="18176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1E13-54C8-456A-99CB-40B80FBCAEA0}" type="slidenum">
              <a:rPr b="0" lang="en-US" sz="1200" spc="-1" strike="noStrike">
                <a:solidFill>
                  <a:srgbClr val="87878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77"/>
          <p:cNvSpPr/>
          <p:nvPr/>
        </p:nvSpPr>
        <p:spPr>
          <a:xfrm>
            <a:off x="33336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PrintPur LM S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0440" y="1214280"/>
          <a:ext cx="8798040" cy="4872240"/>
        </p:xfrm>
        <a:graphic>
          <a:graphicData uri="http://schemas.openxmlformats.org/drawingml/2006/table">
            <a:tbl>
              <a:tblPr/>
              <a:tblGrid>
                <a:gridCol w="963720"/>
                <a:gridCol w="1228680"/>
                <a:gridCol w="1228680"/>
                <a:gridCol w="1076400"/>
                <a:gridCol w="4300560"/>
              </a:tblGrid>
              <a:tr h="59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Pur L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ocyanate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v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 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</a:tr>
              <a:tr h="70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 Product. General Purpos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Balance : Hardness / Soft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Flexib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Mechanical Resistance (Crinkle and Rub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0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yl Ace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oxy terminated. High compatibility with solvent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used in combination with other Printpur, it can improve the roller clean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yl Ace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ly for Gravu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good Printab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Water, Grease and Milk Resistan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-solv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ventl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 Functionaliz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llay for pigment grinding (chips and ba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can be used in combination with other PrintPur grades to increase  the flexibility of the syst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1"/>
          <p:cNvSpPr/>
          <p:nvPr/>
        </p:nvSpPr>
        <p:spPr>
          <a:xfrm>
            <a:off x="228600" y="6397560"/>
            <a:ext cx="18176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4075-C454-4C1F-90DF-C2ECFE8A90AC}" type="slidenum">
              <a:rPr b="0" lang="en-US" sz="1200" spc="-1" strike="noStrike">
                <a:solidFill>
                  <a:srgbClr val="87878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3336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PrintPur HM: Standard Gr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70000" y="914400"/>
          <a:ext cx="8797680" cy="5267160"/>
        </p:xfrm>
        <a:graphic>
          <a:graphicData uri="http://schemas.openxmlformats.org/drawingml/2006/table">
            <a:tbl>
              <a:tblPr/>
              <a:tblGrid>
                <a:gridCol w="963360"/>
                <a:gridCol w="1190880"/>
                <a:gridCol w="1266840"/>
                <a:gridCol w="960120"/>
                <a:gridCol w="4416480"/>
              </a:tblGrid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Pur H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ocyanate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v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 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- Aliph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anol 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yl acetate (80/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purpos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softness/hardness balance providing good Printability and Bonding strength in the most common laminate system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- Aliph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anol 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yl acetate (80/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er Version of PrintPur HM 424 to improve the Bonding Strengt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ph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anol / Ethyl acetate (80/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olar functional group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ly designed for pigment grind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hard fil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e Aliph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propanol / Ethyl Ace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0/6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(Ester-Uretha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adhesion and Bonding Strength in several applications and especially with PET substr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e Aliph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yl ace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(Ester-Uretha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adhesion and Bonding Strength in several applications and especially with PET substra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for Mono-solvent and for NC free Retortable Ink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1"/>
          <p:cNvSpPr/>
          <p:nvPr/>
        </p:nvSpPr>
        <p:spPr>
          <a:xfrm>
            <a:off x="228600" y="6397560"/>
            <a:ext cx="18176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CD8C-6886-4180-A256-56E81BAA51C2}" type="slidenum">
              <a:rPr b="0" lang="en-US" sz="1200" spc="-1" strike="noStrike">
                <a:solidFill>
                  <a:srgbClr val="87878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3336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PrintPur HM:  Special Gr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19040" y="990720"/>
          <a:ext cx="8572680" cy="5213160"/>
        </p:xfrm>
        <a:graphic>
          <a:graphicData uri="http://schemas.openxmlformats.org/drawingml/2006/table">
            <a:tbl>
              <a:tblPr/>
              <a:tblGrid>
                <a:gridCol w="963720"/>
                <a:gridCol w="1190520"/>
                <a:gridCol w="1160640"/>
                <a:gridCol w="914400"/>
                <a:gridCol w="914400"/>
                <a:gridCol w="3429000"/>
              </a:tblGrid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Pur H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ocyanate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v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 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ine N. </a:t>
                      </a: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KOH /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e Aliph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anol 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yl acetate (50/5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hard film. High adhesion and Bonding strength with various substra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as NC or PVB Plasticize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e Aliph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opanol / nPropyl Ace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0/7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hard film. High adhesion and Bonding strength with various substrates High Bonding strength also in Extrusion lamin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able as NC or PVB Plasticize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- Aliph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anol 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yl acetate (10/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Generation Poly(Urethane) Res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Adhesion on different substrates and Adhesion on PP without Promo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E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ph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anol 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yl acetate (10/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e Aliphatic Poly(urethane) for retorting Applica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yellowing Tendency  and High Stability in Thermal Process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1"/>
          <p:cNvSpPr/>
          <p:nvPr/>
        </p:nvSpPr>
        <p:spPr>
          <a:xfrm>
            <a:off x="228600" y="6397560"/>
            <a:ext cx="18176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3AD5-0213-4A99-A917-E377D6BEF52C}" type="slidenum">
              <a:rPr b="0" lang="en-US" sz="1200" spc="-1" strike="noStrike">
                <a:solidFill>
                  <a:srgbClr val="87878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33360" y="165240"/>
            <a:ext cx="84200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d10900"/>
                </a:solidFill>
                <a:latin typeface="Arial"/>
              </a:rPr>
              <a:t>PrintPur Series at Low Ethanol Cont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90440" y="1746360"/>
          <a:ext cx="8798040" cy="2685960"/>
        </p:xfrm>
        <a:graphic>
          <a:graphicData uri="http://schemas.openxmlformats.org/drawingml/2006/table">
            <a:tbl>
              <a:tblPr/>
              <a:tblGrid>
                <a:gridCol w="1257480"/>
                <a:gridCol w="1218960"/>
                <a:gridCol w="1447920"/>
                <a:gridCol w="990720"/>
                <a:gridCol w="3882960"/>
              </a:tblGrid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Pu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ocyanate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v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 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18720">
                      <a:solidFill>
                        <a:srgbClr val="e52d3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d10900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01 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anol &lt; 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yl Ace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 Product.General Purpos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Balance : Hardness / Soft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5760">
                      <a:solidFill>
                        <a:srgbClr val="d10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it-IT" sz="2000" spc="-1" strike="noStrike">
                          <a:solidFill>
                            <a:srgbClr val="d10900"/>
                          </a:solidFill>
                          <a:latin typeface="Arial"/>
                        </a:rPr>
                        <a:t>4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e52d3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4f4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- Aliph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anol &lt; 12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yl acet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5760">
                      <a:solidFill>
                        <a:srgbClr val="d1090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olar functional group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ly designed for pigment grind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hard fil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10900"/>
                      </a:solidFill>
                    </a:lnL>
                    <a:lnR w="18720">
                      <a:solidFill>
                        <a:srgbClr val="e52d30"/>
                      </a:solidFill>
                    </a:lnR>
                    <a:lnT w="5760">
                      <a:solidFill>
                        <a:srgbClr val="d10900"/>
                      </a:solidFill>
                    </a:lnT>
                    <a:lnB w="18720">
                      <a:solidFill>
                        <a:srgbClr val="e52d3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13:02:59Z</dcterms:created>
  <dc:creator>Console Vincenzo</dc:creator>
  <dc:description/>
  <dc:language>en-US</dc:language>
  <cp:lastModifiedBy>m.carbone</cp:lastModifiedBy>
  <cp:lastPrinted>2005-12-19T20:05:43Z</cp:lastPrinted>
  <dcterms:modified xsi:type="dcterms:W3CDTF">2011-04-14T19:23:18Z</dcterms:modified>
  <cp:revision>94</cp:revision>
  <dc:subject/>
  <dc:title>Presentazione di PowerPoint</dc:title>
</cp:coreProperties>
</file>