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66880" y="740880"/>
            <a:ext cx="49305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ADA4-C2BC-4BB4-840D-60B144FB9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6FA-83AE-49DF-8470-B6EB1F20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53920" y="60660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6280" y="4468320"/>
            <a:ext cx="5405400" cy="49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4EE2-C813-4FB4-A1BB-5EED8541B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0B1C-B5B9-4413-8E3F-4FD83BC2C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41C6-66F5-4A5A-A376-B4614468C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3A05-613E-42DC-B027-DB82BF7FB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BE3B-2181-46BE-892F-7303BFE76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20F9-A758-4DB3-9F03-F10AA7B73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A6D9-95A9-4DB8-B44F-70A50DE36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41DD-4158-4EE2-A60E-70AEB46EB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11BC-673D-4835-A7AE-DF6E57F1F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00DA-0769-4C15-B693-AD9E56156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339E-1A85-446F-AD6B-1A18CDE50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C533-8511-400A-B7C9-EDAB81903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arc-1"/>
          <p:cNvPicPr/>
          <p:nvPr/>
        </p:nvPicPr>
        <p:blipFill>
          <a:blip r:embed="rId2"/>
          <a:srcRect l="0" t="0" r="0" b="25774"/>
          <a:stretch/>
        </p:blipFill>
        <p:spPr>
          <a:xfrm>
            <a:off x="6819840" y="0"/>
            <a:ext cx="23241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2824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5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B61-2D94-4320-B6BE-7459DD8A2A3A}" type="slidenum">
              <a:rPr b="0" lang="en-US" sz="1200" spc="-1" strike="noStrike">
                <a:solidFill>
                  <a:srgbClr val="878785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457200" y="901800"/>
            <a:ext cx="8686800" cy="0"/>
          </a:xfrm>
          <a:prstGeom prst="line">
            <a:avLst/>
          </a:prstGeom>
          <a:ln w="190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intPigments cmyk (1)"/>
          <p:cNvPicPr/>
          <p:nvPr/>
        </p:nvPicPr>
        <p:blipFill>
          <a:blip r:embed="rId3"/>
          <a:stretch/>
        </p:blipFill>
        <p:spPr>
          <a:xfrm>
            <a:off x="6781680" y="6197760"/>
            <a:ext cx="2027520" cy="52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2" descr="arc-1"/>
          <p:cNvPicPr/>
          <p:nvPr/>
        </p:nvPicPr>
        <p:blipFill>
          <a:blip r:embed="rId2"/>
          <a:srcRect l="0" t="0" r="0" b="43188"/>
          <a:stretch/>
        </p:blipFill>
        <p:spPr>
          <a:xfrm>
            <a:off x="6842160" y="0"/>
            <a:ext cx="232416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Line 46"/>
          <p:cNvSpPr/>
          <p:nvPr/>
        </p:nvSpPr>
        <p:spPr>
          <a:xfrm>
            <a:off x="0" y="4699080"/>
            <a:ext cx="9144000" cy="0"/>
          </a:xfrm>
          <a:prstGeom prst="line">
            <a:avLst/>
          </a:prstGeom>
          <a:ln w="442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7" descr="FlintPigments cmyk (1)"/>
          <p:cNvPicPr/>
          <p:nvPr/>
        </p:nvPicPr>
        <p:blipFill>
          <a:blip r:embed="rId3"/>
          <a:stretch/>
        </p:blipFill>
        <p:spPr>
          <a:xfrm>
            <a:off x="3568680" y="4924440"/>
            <a:ext cx="5330880" cy="139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295280" y="509760"/>
            <a:ext cx="739152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UV Product Range :</a:t>
            </a:r>
            <a:br>
              <a:rPr sz="3400"/>
            </a:br>
            <a:br>
              <a:rPr sz="3400"/>
            </a:b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- PrintUV range</a:t>
            </a:r>
            <a:br>
              <a:rPr sz="3400"/>
            </a:b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- Acrylate Polymers</a:t>
            </a:r>
            <a:br>
              <a:rPr sz="3400"/>
            </a:b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- UV Intermedi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811400" y="3835080"/>
            <a:ext cx="29098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rch 8th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CB5-F125-423F-8DD0-7869CCCD3B02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77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UV: Oligomers and EpoxyAcry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990720"/>
          <a:ext cx="8839440" cy="4967280"/>
        </p:xfrm>
        <a:graphic>
          <a:graphicData uri="http://schemas.openxmlformats.org/drawingml/2006/table">
            <a:tbl>
              <a:tblPr/>
              <a:tblGrid>
                <a:gridCol w="1193760"/>
                <a:gridCol w="1538280"/>
                <a:gridCol w="2455920"/>
                <a:gridCol w="365148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iv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E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P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oligomer a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viscosit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formulating UV Inks and Varn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Acrylate 96% (4% TMPEO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 for formulating Inks –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visc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 Epoxy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% TMPE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 in TMPEOTA a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viscosit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formulating Inks and Varn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% Epoxy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 TPG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xy Acrylate in TPGDA at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viscosity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formulating Varnish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meric Synergic 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initiator for the for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inks and Varn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601-9E06-4444-AAA0-7C82395786FE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Acrylate Polymers for UV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920" y="1676520"/>
          <a:ext cx="8367480" cy="3247920"/>
        </p:xfrm>
        <a:graphic>
          <a:graphicData uri="http://schemas.openxmlformats.org/drawingml/2006/table">
            <a:tbl>
              <a:tblPr/>
              <a:tblGrid>
                <a:gridCol w="1893600"/>
                <a:gridCol w="1293840"/>
                <a:gridCol w="1455840"/>
                <a:gridCol w="372420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 4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ylate Poly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ylate Polymer for UV Inks and Varnishes. High Pigment dispersion loading capability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 4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ylate Poly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 viscosity and Higher reactivity version of PrintUV 4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Ester UV 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y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e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ylate Polyester based on vegetable fatty acid. Special product for Offset UV In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8691-2A55-449E-AB30-3C62A0D23E61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UV Intermediates for UV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08200" y="1608120"/>
          <a:ext cx="7719840" cy="2735280"/>
        </p:xfrm>
        <a:graphic>
          <a:graphicData uri="http://schemas.openxmlformats.org/drawingml/2006/table">
            <a:tbl>
              <a:tblPr/>
              <a:tblGrid>
                <a:gridCol w="2727000"/>
                <a:gridCol w="499284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 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ve for OPV to avoid the migration into the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PrintUV 5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led Varnish for UV Offset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Initiators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zophenone in TMPE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3:02:59Z</dcterms:created>
  <dc:creator>Console Vincenzo</dc:creator>
  <dc:description/>
  <dc:language>en-US</dc:language>
  <cp:lastModifiedBy>m.carbone</cp:lastModifiedBy>
  <cp:lastPrinted>2005-12-19T20:05:43Z</cp:lastPrinted>
  <dcterms:modified xsi:type="dcterms:W3CDTF">2011-04-14T19:24:43Z</dcterms:modified>
  <cp:revision>102</cp:revision>
  <dc:subject/>
  <dc:title>Presentazione di PowerPoint</dc:title>
</cp:coreProperties>
</file>